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5A7-4711-45C3-96CE-9A6C7F79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AB5-E978-440C-A3F5-7D9B1561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CD7-8FD8-47A2-81EB-A156D780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FA8-3C17-45F6-AB6F-5F911C85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2C6-B352-44BC-8B54-BDB7B489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999-DAE4-4F28-BB3F-7B63F87C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E91-571E-428A-9895-2B9C5BD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B40-91D0-4075-B0C0-EEE2C94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DF5-A44B-4AB7-B68A-3257B715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E6C-09FB-42BA-91CD-D960415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DBD-A39F-479C-9FA4-561EC09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BAE-F3FB-4A41-BCB8-4DC4329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44AF-4FB3-4E7B-9ECF-F3CBA687F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00040" y="285840"/>
            <a:ext cx="842976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мся рисовать  деревья 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79440" y="649080"/>
            <a:ext cx="82962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Ё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ем ёлку. Какую геометрическую фигуру напоминает н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ё силуэт? Помним, что вместо листьев у ёлки хвоинки и 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зелёной круглый год, поэтому, рисуя зимний пейз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ашиваем ёлку зелёным цве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0" r="0" b="51244"/>
          <a:stretch/>
        </p:blipFill>
        <p:spPr>
          <a:xfrm>
            <a:off x="1428840" y="2500200"/>
            <a:ext cx="7154640" cy="406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47318" r="0" b="0"/>
          <a:stretch/>
        </p:blipFill>
        <p:spPr>
          <a:xfrm>
            <a:off x="428760" y="714240"/>
            <a:ext cx="838332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526752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71680" y="357120"/>
            <a:ext cx="7215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зентация сделана по книге Г.И. Шалаевой  «Учимся рисова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: Елены Берюх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WordArt 1"/>
          <p:cNvSpPr txBox="1"/>
          <p:nvPr/>
        </p:nvSpPr>
        <p:spPr>
          <a:xfrm>
            <a:off x="2857680" y="5143680"/>
            <a:ext cx="329076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ц  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304560" y="364320"/>
            <a:ext cx="840744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бщего у всех деревьев? Конечно, ствол и ветки. Ствол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амая толстая часть дерева. Ветки расположены вд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а и направлены вверх. Самая толстая часть ствола ок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и, а самая тонкая — на верхушке. Самые короткие в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ожены ближе к верхушке, а самые длинные — ближе 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ю ство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0" r="0" b="49783"/>
          <a:stretch/>
        </p:blipFill>
        <p:spPr>
          <a:xfrm>
            <a:off x="1785960" y="257184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071800" y="0"/>
            <a:ext cx="5048280" cy="654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7360" y="214200"/>
            <a:ext cx="86868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клипарты\еда раст\0_5541f_6916de6f_S.png"/>
          <p:cNvPicPr/>
          <p:nvPr/>
        </p:nvPicPr>
        <p:blipFill>
          <a:blip r:embed="rId2"/>
          <a:stretch/>
        </p:blipFill>
        <p:spPr>
          <a:xfrm>
            <a:off x="285840" y="3429000"/>
            <a:ext cx="28447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D:\клипарты\еда раст\0_5541d_91a520bd_S.png"/>
          <p:cNvPicPr/>
          <p:nvPr/>
        </p:nvPicPr>
        <p:blipFill>
          <a:blip r:embed="rId3"/>
          <a:stretch/>
        </p:blipFill>
        <p:spPr>
          <a:xfrm>
            <a:off x="6203880" y="3000240"/>
            <a:ext cx="2436840" cy="361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:\клипарты\еда раст\0_55422_52941eb7_S.png"/>
          <p:cNvPicPr/>
          <p:nvPr/>
        </p:nvPicPr>
        <p:blipFill>
          <a:blip r:embed="rId4"/>
          <a:stretch/>
        </p:blipFill>
        <p:spPr>
          <a:xfrm>
            <a:off x="3571920" y="3071880"/>
            <a:ext cx="2214360" cy="332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571840" y="2214720"/>
            <a:ext cx="3857400" cy="4136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363600"/>
            <a:ext cx="84294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ервый этап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ой дерева является его ствол. Поэт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ование дерева нужно начинать со ствола. Сверху ство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ьше, а внизу толще. Если мы рисуем кисточкой, то вер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а нужно рисовать её кончиком, а низ — нажимая всей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520" y="363600"/>
            <a:ext cx="80445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Второй этап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это изображение крупных, главных ве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рисуются так же, как ствол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рху тоненькие, а ближе 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у — потолще. И направлены вверх тонким концом.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м помним, что ветки н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е находятся на раз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тоя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71880" y="2143080"/>
            <a:ext cx="2301840" cy="447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89240" y="290880"/>
            <a:ext cx="81954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Третий 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рисование мелких веток, то есть к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ева. Затем рисуем мелкие веточки, которые отходят 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х. Их очень много. Мелкие ветки рисуются одина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щины — они тоненькие, но тоже тянутся вверх — к солн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43280" y="1928880"/>
            <a:ext cx="3311280" cy="45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71160" y="228240"/>
            <a:ext cx="8359920" cy="309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рё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какие деревья растут у нас? Самые распространённые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ёза и ель. Нарисуем берёзу. Но сначала сравним вет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ба с ветками берёзы. Какая между ними разница? Посмотр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тельно: в то время как ветки дуба растут больш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ю горизонтально и вертикально, то у берёзы в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тонкие и расположены не вверх, они гнутся, свис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з и делятся на ещё более тонкие веточки. При ветре о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ачиваются то в одну, то в другую сторону. Такие 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ающие ветки и у и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0" r="0" b="51911"/>
          <a:stretch/>
        </p:blipFill>
        <p:spPr>
          <a:xfrm>
            <a:off x="1571760" y="3429000"/>
            <a:ext cx="627516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4432" t="47570" r="9639" b="0"/>
          <a:stretch/>
        </p:blipFill>
        <p:spPr>
          <a:xfrm>
            <a:off x="642960" y="1000080"/>
            <a:ext cx="76438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3:59:45Z</dcterms:created>
  <dc:creator>Helen</dc:creator>
  <dc:description/>
  <dc:language>en-US</dc:language>
  <cp:lastModifiedBy>Boris</cp:lastModifiedBy>
  <dcterms:modified xsi:type="dcterms:W3CDTF">2012-09-23T05:34:29Z</dcterms:modified>
  <cp:revision>5</cp:revision>
  <dc:subject/>
  <dc:title>Слайд 1</dc:title>
</cp:coreProperties>
</file>